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0" name="TextBox 3"/>
          <p:cNvSpPr/>
          <p:nvPr/>
        </p:nvSpPr>
        <p:spPr>
          <a:xfrm>
            <a:off x="-250920" y="198900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已知一个数的几分之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是多少求这个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6560" y="4221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4"/>
          <p:cNvSpPr/>
          <p:nvPr/>
        </p:nvSpPr>
        <p:spPr>
          <a:xfrm>
            <a:off x="173160" y="1413000"/>
            <a:ext cx="133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图书馆共有多少本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图书馆有多少本故事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58680" y="407664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838080" y="45054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“图书馆共有多少本书”需要哪个条件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44560" y="493380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书馆有多少本故事书”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826920" y="6237360"/>
            <a:ext cx="83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类似的问题，我们要注意什么？（找准和问题对应的条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5821200"/>
            <a:ext cx="8317080" cy="603360"/>
            <a:chOff x="0" y="5821200"/>
            <a:chExt cx="8317080" cy="603360"/>
          </a:xfrm>
        </p:grpSpPr>
        <p:sp>
          <p:nvSpPr>
            <p:cNvPr id="382" name="Rectangle 2"/>
            <p:cNvSpPr/>
            <p:nvPr/>
          </p:nvSpPr>
          <p:spPr>
            <a:xfrm>
              <a:off x="826920" y="5848200"/>
              <a:ext cx="749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会解决这两个问题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"/>
            <p:cNvSpPr/>
            <p:nvPr/>
          </p:nvSpPr>
          <p:spPr>
            <a:xfrm>
              <a:off x="0" y="5821200"/>
              <a:ext cx="626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13"/>
          <p:cNvSpPr/>
          <p:nvPr/>
        </p:nvSpPr>
        <p:spPr>
          <a:xfrm>
            <a:off x="4427640" y="141300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图书馆共有多少本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27640" y="1773360"/>
            <a:ext cx="3357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图书馆有多少本故事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26920" y="3046320"/>
            <a:ext cx="8242200" cy="2940480"/>
            <a:chOff x="826920" y="3046320"/>
            <a:chExt cx="8242200" cy="2940480"/>
          </a:xfrm>
        </p:grpSpPr>
        <p:grpSp>
          <p:nvGrpSpPr>
            <p:cNvPr id="387" name=""/>
            <p:cNvGrpSpPr/>
            <p:nvPr/>
          </p:nvGrpSpPr>
          <p:grpSpPr>
            <a:xfrm>
              <a:off x="826920" y="3074760"/>
              <a:ext cx="4535640" cy="2912040"/>
              <a:chOff x="826920" y="3074760"/>
              <a:chExt cx="4535640" cy="2912040"/>
            </a:xfrm>
          </p:grpSpPr>
          <p:sp>
            <p:nvSpPr>
              <p:cNvPr id="388" name="Text Box 14"/>
              <p:cNvSpPr/>
              <p:nvPr/>
            </p:nvSpPr>
            <p:spPr>
              <a:xfrm>
                <a:off x="826920" y="3074760"/>
                <a:ext cx="453564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图书馆共有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本书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795320" y="3684240"/>
                <a:ext cx="2593800" cy="2302560"/>
                <a:chOff x="1795320" y="3684240"/>
                <a:chExt cx="2593800" cy="23025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084400" y="3839760"/>
                  <a:ext cx="23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1795320" y="3684240"/>
                  <a:ext cx="511200" cy="778680"/>
                  <a:chOff x="1795320" y="3684240"/>
                  <a:chExt cx="511200" cy="7786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801800" y="40399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795320" y="3684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811160" y="41032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2206080" y="4397040"/>
                  <a:ext cx="1033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÷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"/>
                <p:cNvGrpSpPr/>
                <p:nvPr/>
              </p:nvGrpSpPr>
              <p:grpSpPr>
                <a:xfrm>
                  <a:off x="3240000" y="4217760"/>
                  <a:ext cx="511200" cy="778320"/>
                  <a:chOff x="3240000" y="4217760"/>
                  <a:chExt cx="511200" cy="7783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3246480" y="45730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240000" y="42177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255840" y="463644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2207880" y="5014440"/>
                  <a:ext cx="1043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135160" y="5563800"/>
                  <a:ext cx="10681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3241440" y="4838400"/>
                  <a:ext cx="511200" cy="778680"/>
                  <a:chOff x="3241440" y="4838400"/>
                  <a:chExt cx="511200" cy="7786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3247920" y="51940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241440" y="48384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257280" y="525744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"/>
            <p:cNvGrpSpPr/>
            <p:nvPr/>
          </p:nvGrpSpPr>
          <p:grpSpPr>
            <a:xfrm>
              <a:off x="4533840" y="3046320"/>
              <a:ext cx="4535280" cy="2912040"/>
              <a:chOff x="4533840" y="3046320"/>
              <a:chExt cx="4535280" cy="2912040"/>
            </a:xfrm>
          </p:grpSpPr>
          <p:sp>
            <p:nvSpPr>
              <p:cNvPr id="407" name="Text Box 14"/>
              <p:cNvSpPr/>
              <p:nvPr/>
            </p:nvSpPr>
            <p:spPr>
              <a:xfrm>
                <a:off x="4533840" y="3046320"/>
                <a:ext cx="453528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图书馆共有故事书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本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5501880" y="3655800"/>
                <a:ext cx="2593080" cy="2302560"/>
                <a:chOff x="5501880" y="3655800"/>
                <a:chExt cx="2593080" cy="23025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790600" y="3811320"/>
                  <a:ext cx="23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5501880" y="3655800"/>
                  <a:ext cx="510480" cy="778680"/>
                  <a:chOff x="5501880" y="3655800"/>
                  <a:chExt cx="510480" cy="7786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5508000" y="401148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501880" y="365580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517360" y="4074840"/>
                    <a:ext cx="28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5912280" y="4368600"/>
                  <a:ext cx="1033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÷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6946200" y="4189320"/>
                  <a:ext cx="510480" cy="778320"/>
                  <a:chOff x="6946200" y="4189320"/>
                  <a:chExt cx="510480" cy="7783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952320" y="454464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946200" y="418932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961680" y="4608000"/>
                    <a:ext cx="28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5913720" y="4986000"/>
                  <a:ext cx="1043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2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41360" y="5535360"/>
                  <a:ext cx="10677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4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6947640" y="4809960"/>
                  <a:ext cx="510480" cy="778680"/>
                  <a:chOff x="6947640" y="4809960"/>
                  <a:chExt cx="510480" cy="7786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6953760" y="516564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947640" y="480996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963120" y="5229000"/>
                    <a:ext cx="28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3360" y="1484280"/>
            <a:ext cx="5013360" cy="197964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4"/>
          <p:cNvSpPr/>
          <p:nvPr/>
        </p:nvSpPr>
        <p:spPr>
          <a:xfrm>
            <a:off x="173160" y="1413000"/>
            <a:ext cx="133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57120" y="148428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阅读下面的句子，说说你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36480" y="2243160"/>
            <a:ext cx="62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男生人数占全班人数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72040" y="2060640"/>
            <a:ext cx="511200" cy="888120"/>
            <a:chOff x="4172040" y="2060640"/>
            <a:chExt cx="511200" cy="888120"/>
          </a:xfrm>
        </p:grpSpPr>
        <p:sp>
          <p:nvSpPr>
            <p:cNvPr id="47" name=""/>
            <p:cNvSpPr/>
            <p:nvPr/>
          </p:nvSpPr>
          <p:spPr>
            <a:xfrm>
              <a:off x="4178520" y="241596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72040" y="206064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9040" y="25239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1760" y="4429080"/>
            <a:ext cx="8286480" cy="886680"/>
            <a:chOff x="401760" y="4429080"/>
            <a:chExt cx="8286480" cy="886680"/>
          </a:xfrm>
        </p:grpSpPr>
        <p:sp>
          <p:nvSpPr>
            <p:cNvPr id="51" name="Rectangle 2"/>
            <p:cNvSpPr/>
            <p:nvPr/>
          </p:nvSpPr>
          <p:spPr>
            <a:xfrm>
              <a:off x="401760" y="4429080"/>
              <a:ext cx="828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知道了什么？（男生人数与全班人数比较：全班人数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单位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男生人数占全班人数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543280" y="4537080"/>
              <a:ext cx="510480" cy="778680"/>
              <a:chOff x="5543280" y="4537080"/>
              <a:chExt cx="510480" cy="778680"/>
            </a:xfrm>
          </p:grpSpPr>
          <p:sp>
            <p:nvSpPr>
              <p:cNvPr id="53" name=""/>
              <p:cNvSpPr/>
              <p:nvPr/>
            </p:nvSpPr>
            <p:spPr>
              <a:xfrm>
                <a:off x="5549400" y="48927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43280" y="45370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558760" y="49561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779480" y="2637000"/>
            <a:ext cx="3583800" cy="1379520"/>
            <a:chOff x="1779480" y="2637000"/>
            <a:chExt cx="3583800" cy="1379520"/>
          </a:xfrm>
        </p:grpSpPr>
        <p:grpSp>
          <p:nvGrpSpPr>
            <p:cNvPr id="57" name=""/>
            <p:cNvGrpSpPr/>
            <p:nvPr/>
          </p:nvGrpSpPr>
          <p:grpSpPr>
            <a:xfrm>
              <a:off x="2555640" y="3075120"/>
              <a:ext cx="511200" cy="778680"/>
              <a:chOff x="2555640" y="3075120"/>
              <a:chExt cx="511200" cy="778680"/>
            </a:xfrm>
          </p:grpSpPr>
          <p:sp>
            <p:nvSpPr>
              <p:cNvPr id="58" name=""/>
              <p:cNvSpPr/>
              <p:nvPr/>
            </p:nvSpPr>
            <p:spPr>
              <a:xfrm>
                <a:off x="2562120" y="3430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55640" y="3075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71480" y="3494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779480" y="2637000"/>
              <a:ext cx="3583800" cy="1379520"/>
              <a:chOff x="1779480" y="2637000"/>
              <a:chExt cx="3583800" cy="13795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796400" y="3945240"/>
                <a:ext cx="3566880" cy="71280"/>
                <a:chOff x="1796400" y="3945240"/>
                <a:chExt cx="3566880" cy="7128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1796400" y="3945240"/>
                  <a:ext cx="716040" cy="71280"/>
                  <a:chOff x="1796400" y="3945240"/>
                  <a:chExt cx="716040" cy="712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1796400" y="4016520"/>
                    <a:ext cx="71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79640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507400" y="3945240"/>
                  <a:ext cx="716040" cy="71280"/>
                  <a:chOff x="2507400" y="3945240"/>
                  <a:chExt cx="716040" cy="71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507400" y="4016520"/>
                    <a:ext cx="71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50740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3218760" y="3945240"/>
                  <a:ext cx="715680" cy="71280"/>
                  <a:chOff x="3218760" y="3945240"/>
                  <a:chExt cx="715680" cy="712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3218760" y="4016520"/>
                    <a:ext cx="715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321876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3934440" y="3945240"/>
                  <a:ext cx="716040" cy="71280"/>
                  <a:chOff x="3934440" y="3945240"/>
                  <a:chExt cx="716040" cy="712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3934440" y="4016520"/>
                    <a:ext cx="71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9344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4647240" y="3945240"/>
                  <a:ext cx="716040" cy="71280"/>
                  <a:chOff x="4647240" y="3945240"/>
                  <a:chExt cx="716040" cy="712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4647240" y="4016520"/>
                    <a:ext cx="716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647240" y="39452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>
                  <a:off x="5358960" y="394524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 flipV="1" rot="5400000">
                <a:off x="2413080" y="3094560"/>
                <a:ext cx="144720" cy="1378440"/>
              </a:xfrm>
              <a:custGeom>
                <a:avLst/>
                <a:gdLst>
                  <a:gd name="textAreaLeft" fmla="*/ 92520 w 144720"/>
                  <a:gd name="textAreaRight" fmla="*/ 145080 w 144720"/>
                  <a:gd name="textAreaTop" fmla="*/ 35640 h 1378440"/>
                  <a:gd name="textAreaBottom" fmla="*/ 1342800 h 137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05200" y="3251520"/>
                <a:ext cx="1003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男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5400000">
                <a:off x="3416760" y="1386720"/>
                <a:ext cx="293760" cy="3568680"/>
              </a:xfrm>
              <a:custGeom>
                <a:avLst/>
                <a:gdLst>
                  <a:gd name="textAreaLeft" fmla="*/ 187560 w 293760"/>
                  <a:gd name="textAreaRight" fmla="*/ 294120 w 293760"/>
                  <a:gd name="textAreaTop" fmla="*/ 92880 h 3568680"/>
                  <a:gd name="textAreaBottom" fmla="*/ 3475800 h 35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46400" y="2637000"/>
                <a:ext cx="861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744480" y="5157720"/>
            <a:ext cx="7858080" cy="1221480"/>
            <a:chOff x="744480" y="5157720"/>
            <a:chExt cx="7858080" cy="1221480"/>
          </a:xfrm>
        </p:grpSpPr>
        <p:sp>
          <p:nvSpPr>
            <p:cNvPr id="84" name="Rectangle 2"/>
            <p:cNvSpPr/>
            <p:nvPr/>
          </p:nvSpPr>
          <p:spPr>
            <a:xfrm>
              <a:off x="744480" y="5445000"/>
              <a:ext cx="785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还能想到什么？（女生人数占全班人数的    ，男生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女生人数的   ，女生人数是男生人数的   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472080" y="5157720"/>
              <a:ext cx="511200" cy="778680"/>
              <a:chOff x="6472080" y="5157720"/>
              <a:chExt cx="511200" cy="778680"/>
            </a:xfrm>
          </p:grpSpPr>
          <p:sp>
            <p:nvSpPr>
              <p:cNvPr id="86" name=""/>
              <p:cNvSpPr/>
              <p:nvPr/>
            </p:nvSpPr>
            <p:spPr>
              <a:xfrm>
                <a:off x="6478560" y="5513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72080" y="5157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87920" y="5576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3021120" y="5600520"/>
              <a:ext cx="510480" cy="778680"/>
              <a:chOff x="3021120" y="5600520"/>
              <a:chExt cx="510480" cy="778680"/>
            </a:xfrm>
          </p:grpSpPr>
          <p:sp>
            <p:nvSpPr>
              <p:cNvPr id="90" name=""/>
              <p:cNvSpPr/>
              <p:nvPr/>
            </p:nvSpPr>
            <p:spPr>
              <a:xfrm>
                <a:off x="3027240" y="59562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021120" y="56005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36600" y="601956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49960" y="5594400"/>
              <a:ext cx="511200" cy="778320"/>
              <a:chOff x="6249960" y="5594400"/>
              <a:chExt cx="511200" cy="778320"/>
            </a:xfrm>
          </p:grpSpPr>
          <p:sp>
            <p:nvSpPr>
              <p:cNvPr id="94" name=""/>
              <p:cNvSpPr/>
              <p:nvPr/>
            </p:nvSpPr>
            <p:spPr>
              <a:xfrm>
                <a:off x="6256440" y="5949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49960" y="5594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65800" y="6013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5656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5280" y="1413000"/>
            <a:ext cx="610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收集信息，明确条件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42160" cy="2158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74640" y="3933720"/>
            <a:ext cx="3068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明重多少千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9280" y="4881600"/>
            <a:ext cx="8750160" cy="981720"/>
            <a:chOff x="179280" y="4881600"/>
            <a:chExt cx="8750160" cy="981720"/>
          </a:xfrm>
        </p:grpSpPr>
        <p:sp>
          <p:nvSpPr>
            <p:cNvPr id="104" name="Rectangle 2"/>
            <p:cNvSpPr/>
            <p:nvPr/>
          </p:nvSpPr>
          <p:spPr>
            <a:xfrm>
              <a:off x="179280" y="4881600"/>
              <a:ext cx="875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你知道了什么？（小明体内的水分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小明体内的水分占体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     ，要求的是小明的体重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323720" y="5084640"/>
              <a:ext cx="511200" cy="778680"/>
              <a:chOff x="1323720" y="5084640"/>
              <a:chExt cx="511200" cy="778680"/>
            </a:xfrm>
          </p:grpSpPr>
          <p:sp>
            <p:nvSpPr>
              <p:cNvPr id="106" name=""/>
              <p:cNvSpPr/>
              <p:nvPr/>
            </p:nvSpPr>
            <p:spPr>
              <a:xfrm>
                <a:off x="1330200" y="5440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23720" y="5084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9560" y="5503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840" y="5656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95280" y="1413000"/>
            <a:ext cx="6033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画图分析，理解数量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143000" y="1928880"/>
            <a:ext cx="4000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根据题目的意思，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93720" y="5794200"/>
            <a:ext cx="82152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人的信息与问题有关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2409840"/>
            <a:ext cx="3598920" cy="1921680"/>
            <a:chOff x="1979640" y="2409840"/>
            <a:chExt cx="3598920" cy="1921680"/>
          </a:xfrm>
        </p:grpSpPr>
        <p:grpSp>
          <p:nvGrpSpPr>
            <p:cNvPr id="116" name=""/>
            <p:cNvGrpSpPr/>
            <p:nvPr/>
          </p:nvGrpSpPr>
          <p:grpSpPr>
            <a:xfrm>
              <a:off x="3844800" y="2409840"/>
              <a:ext cx="511200" cy="778680"/>
              <a:chOff x="3844800" y="2409840"/>
              <a:chExt cx="511200" cy="778680"/>
            </a:xfrm>
          </p:grpSpPr>
          <p:sp>
            <p:nvSpPr>
              <p:cNvPr id="117" name=""/>
              <p:cNvSpPr/>
              <p:nvPr/>
            </p:nvSpPr>
            <p:spPr>
              <a:xfrm>
                <a:off x="3851280" y="276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44800" y="2409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60640" y="2828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979640" y="2546280"/>
              <a:ext cx="3598920" cy="1785240"/>
              <a:chOff x="1979640" y="2546280"/>
              <a:chExt cx="3598920" cy="17852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981080" y="3240000"/>
                <a:ext cx="3583080" cy="71280"/>
                <a:chOff x="1981080" y="3240000"/>
                <a:chExt cx="3583080" cy="7128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1981080" y="3240000"/>
                  <a:ext cx="719280" cy="71280"/>
                  <a:chOff x="1981080" y="3240000"/>
                  <a:chExt cx="719280" cy="712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1981080" y="331128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81080" y="32400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2695320" y="3240000"/>
                  <a:ext cx="719280" cy="71280"/>
                  <a:chOff x="2695320" y="3240000"/>
                  <a:chExt cx="719280" cy="712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2695320" y="331128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2695320" y="32400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409920" y="3240000"/>
                  <a:ext cx="718920" cy="71280"/>
                  <a:chOff x="3409920" y="3240000"/>
                  <a:chExt cx="718920" cy="712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409920" y="33112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09920" y="32400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4128840" y="3240000"/>
                  <a:ext cx="719280" cy="71280"/>
                  <a:chOff x="4128840" y="3240000"/>
                  <a:chExt cx="719280" cy="712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128840" y="331128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128840" y="32400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44880" y="3240000"/>
                  <a:ext cx="719280" cy="71280"/>
                  <a:chOff x="4844880" y="3240000"/>
                  <a:chExt cx="719280" cy="71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44880" y="3311280"/>
                    <a:ext cx="719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44880" y="32400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5559480" y="324000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 flipV="1" rot="5400000">
                <a:off x="3308400" y="1676880"/>
                <a:ext cx="204840" cy="286236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360"/>
                  <a:gd name="textAreaBottom" fmla="*/ 2787840 h 286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90600" y="2546280"/>
                <a:ext cx="1876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水分占体重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00000">
                <a:off x="3308400" y="2026800"/>
                <a:ext cx="204840" cy="286236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74520 h 2862360"/>
                  <a:gd name="textAreaBottom" fmla="*/ 2787840 h 286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20960" y="3454200"/>
                <a:ext cx="1511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水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200000">
                <a:off x="3671280" y="2111760"/>
                <a:ext cx="215640" cy="359892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93600 h 3598920"/>
                  <a:gd name="textAreaBottom" fmla="*/ 3505320 h 359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32000" y="3908520"/>
                <a:ext cx="1511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体重？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-82440" y="4437000"/>
            <a:ext cx="9612360" cy="1004040"/>
            <a:chOff x="-82440" y="4437000"/>
            <a:chExt cx="9612360" cy="1004040"/>
          </a:xfrm>
        </p:grpSpPr>
        <p:sp>
          <p:nvSpPr>
            <p:cNvPr id="145" name="Rectangle 2"/>
            <p:cNvSpPr/>
            <p:nvPr/>
          </p:nvSpPr>
          <p:spPr>
            <a:xfrm>
              <a:off x="-82440" y="4437000"/>
              <a:ext cx="9612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看图，说明图意。（小明身体中水分的重量与体重做比较：小明的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重是单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小明体内的水分占体重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求小明的体重是多少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817240" y="4662360"/>
              <a:ext cx="510480" cy="778680"/>
              <a:chOff x="5817240" y="4662360"/>
              <a:chExt cx="510480" cy="778680"/>
            </a:xfrm>
          </p:grpSpPr>
          <p:sp>
            <p:nvSpPr>
              <p:cNvPr id="147" name=""/>
              <p:cNvSpPr/>
              <p:nvPr/>
            </p:nvSpPr>
            <p:spPr>
              <a:xfrm>
                <a:off x="5823360" y="50180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17240" y="4662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32720" y="50814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89040" y="5251320"/>
            <a:ext cx="8712000" cy="778680"/>
            <a:chOff x="689040" y="5251320"/>
            <a:chExt cx="8712000" cy="778680"/>
          </a:xfrm>
        </p:grpSpPr>
        <p:sp>
          <p:nvSpPr>
            <p:cNvPr id="151" name="Rectangle 2"/>
            <p:cNvSpPr/>
            <p:nvPr/>
          </p:nvSpPr>
          <p:spPr>
            <a:xfrm>
              <a:off x="689040" y="5300640"/>
              <a:ext cx="8712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能列出一个等量关系吗？（小明的体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明体内水分的质量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871960" y="5251320"/>
              <a:ext cx="510480" cy="778680"/>
              <a:chOff x="5871960" y="5251320"/>
              <a:chExt cx="510480" cy="778680"/>
            </a:xfrm>
          </p:grpSpPr>
          <p:sp>
            <p:nvSpPr>
              <p:cNvPr id="153" name=""/>
              <p:cNvSpPr/>
              <p:nvPr/>
            </p:nvSpPr>
            <p:spPr>
              <a:xfrm>
                <a:off x="5878080" y="56070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71960" y="52513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87440" y="567036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84360" y="531324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能结合线段图说说对这种解法的理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95280" y="1413000"/>
            <a:ext cx="560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读懂过程，感悟不同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471680" y="594828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有其他的解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46000" y="1965240"/>
            <a:ext cx="230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预设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224240" y="186696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预设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6154560" y="18558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预设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2424240"/>
            <a:ext cx="3240360" cy="2668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6"/>
          <p:cNvSpPr/>
          <p:nvPr/>
        </p:nvSpPr>
        <p:spPr>
          <a:xfrm>
            <a:off x="882720" y="3056040"/>
            <a:ext cx="306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46000" y="2382840"/>
            <a:ext cx="4013280" cy="2605680"/>
            <a:chOff x="846000" y="2382840"/>
            <a:chExt cx="4013280" cy="2605680"/>
          </a:xfrm>
        </p:grpSpPr>
        <p:sp>
          <p:nvSpPr>
            <p:cNvPr id="167" name=""/>
            <p:cNvSpPr/>
            <p:nvPr/>
          </p:nvSpPr>
          <p:spPr>
            <a:xfrm>
              <a:off x="846000" y="2382840"/>
              <a:ext cx="401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解：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设小明的体重是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1560" y="2944800"/>
              <a:ext cx="2469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461960" y="2774880"/>
              <a:ext cx="547200" cy="810720"/>
              <a:chOff x="1461960" y="2774880"/>
              <a:chExt cx="547200" cy="81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1468800" y="3162600"/>
                <a:ext cx="54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1960" y="2774880"/>
                <a:ext cx="385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78880" y="3231360"/>
                <a:ext cx="30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776240" y="3490920"/>
              <a:ext cx="1427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05120" y="3271680"/>
              <a:ext cx="547200" cy="810720"/>
              <a:chOff x="2805120" y="3271680"/>
              <a:chExt cx="547200" cy="810720"/>
            </a:xfrm>
          </p:grpSpPr>
          <p:sp>
            <p:nvSpPr>
              <p:cNvPr id="175" name=""/>
              <p:cNvSpPr/>
              <p:nvPr/>
            </p:nvSpPr>
            <p:spPr>
              <a:xfrm>
                <a:off x="2811960" y="3659400"/>
                <a:ext cx="54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05120" y="3271680"/>
                <a:ext cx="385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2040" y="3728160"/>
                <a:ext cx="30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795320" y="4125960"/>
              <a:ext cx="1336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801880" y="3917880"/>
              <a:ext cx="547200" cy="810720"/>
              <a:chOff x="2801880" y="3917880"/>
              <a:chExt cx="547200" cy="810720"/>
            </a:xfrm>
          </p:grpSpPr>
          <p:sp>
            <p:nvSpPr>
              <p:cNvPr id="180" name=""/>
              <p:cNvSpPr/>
              <p:nvPr/>
            </p:nvSpPr>
            <p:spPr>
              <a:xfrm>
                <a:off x="2808720" y="4305600"/>
                <a:ext cx="54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01880" y="3917880"/>
                <a:ext cx="385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18800" y="4374360"/>
                <a:ext cx="30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795320" y="4565520"/>
              <a:ext cx="247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25920" y="2411280"/>
            <a:ext cx="1515960" cy="1738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46720" y="2360520"/>
            <a:ext cx="2573280" cy="1594440"/>
            <a:chOff x="4446720" y="2360520"/>
            <a:chExt cx="2573280" cy="1594440"/>
          </a:xfrm>
        </p:grpSpPr>
        <p:sp>
          <p:nvSpPr>
            <p:cNvPr id="186" name=""/>
            <p:cNvSpPr/>
            <p:nvPr/>
          </p:nvSpPr>
          <p:spPr>
            <a:xfrm>
              <a:off x="4446720" y="2539800"/>
              <a:ext cx="1420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367600" y="2360520"/>
              <a:ext cx="565920" cy="780480"/>
              <a:chOff x="5367600" y="2360520"/>
              <a:chExt cx="565920" cy="780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374440" y="2718000"/>
                <a:ext cx="55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67600" y="2360520"/>
                <a:ext cx="399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84880" y="2781720"/>
                <a:ext cx="31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465800" y="312552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391360" y="2946240"/>
              <a:ext cx="565920" cy="780480"/>
              <a:chOff x="5391360" y="2946240"/>
              <a:chExt cx="565920" cy="780480"/>
            </a:xfrm>
          </p:grpSpPr>
          <p:sp>
            <p:nvSpPr>
              <p:cNvPr id="193" name=""/>
              <p:cNvSpPr/>
              <p:nvPr/>
            </p:nvSpPr>
            <p:spPr>
              <a:xfrm>
                <a:off x="5398200" y="3303720"/>
                <a:ext cx="55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91360" y="2946240"/>
                <a:ext cx="399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08640" y="3367440"/>
                <a:ext cx="31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465800" y="3531960"/>
              <a:ext cx="2554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462720" y="2409840"/>
            <a:ext cx="1925280" cy="1739520"/>
            <a:chOff x="6462720" y="2409840"/>
            <a:chExt cx="1925280" cy="1739520"/>
          </a:xfrm>
        </p:grpSpPr>
        <p:sp>
          <p:nvSpPr>
            <p:cNvPr id="198" name=""/>
            <p:cNvSpPr/>
            <p:nvPr/>
          </p:nvSpPr>
          <p:spPr>
            <a:xfrm>
              <a:off x="6462720" y="2409840"/>
              <a:ext cx="1925280" cy="173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41920" y="2487960"/>
              <a:ext cx="176616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4×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×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47760" y="26676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5280" y="1413000"/>
            <a:ext cx="660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四）回顾反思，沟通不同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36560" y="5505480"/>
            <a:ext cx="708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些不同的算法中有什么相同点与不同点？（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同，数量之间的关系相同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5"/>
          <p:cNvSpPr/>
          <p:nvPr/>
        </p:nvSpPr>
        <p:spPr>
          <a:xfrm>
            <a:off x="1857240" y="4214880"/>
            <a:ext cx="457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000" y="2216160"/>
            <a:ext cx="3183120" cy="2448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6"/>
          <p:cNvSpPr/>
          <p:nvPr/>
        </p:nvSpPr>
        <p:spPr>
          <a:xfrm>
            <a:off x="880920" y="2795760"/>
            <a:ext cx="30085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46000" y="2178000"/>
            <a:ext cx="3941640" cy="2426400"/>
            <a:chOff x="846000" y="2178000"/>
            <a:chExt cx="3941640" cy="2426400"/>
          </a:xfrm>
        </p:grpSpPr>
        <p:sp>
          <p:nvSpPr>
            <p:cNvPr id="210" name=""/>
            <p:cNvSpPr/>
            <p:nvPr/>
          </p:nvSpPr>
          <p:spPr>
            <a:xfrm>
              <a:off x="846000" y="2178000"/>
              <a:ext cx="3941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解：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设小明的体重是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5720" y="2693880"/>
              <a:ext cx="2425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50800" y="2538360"/>
              <a:ext cx="537480" cy="778680"/>
              <a:chOff x="1450800" y="2538360"/>
              <a:chExt cx="537480" cy="778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457280" y="2894040"/>
                <a:ext cx="531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50800" y="2538360"/>
                <a:ext cx="37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67360" y="2957400"/>
                <a:ext cx="30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1760400" y="3195720"/>
              <a:ext cx="1658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835000" y="2994120"/>
              <a:ext cx="537480" cy="778320"/>
              <a:chOff x="2835000" y="2994120"/>
              <a:chExt cx="537480" cy="778320"/>
            </a:xfrm>
          </p:grpSpPr>
          <p:sp>
            <p:nvSpPr>
              <p:cNvPr id="218" name=""/>
              <p:cNvSpPr/>
              <p:nvPr/>
            </p:nvSpPr>
            <p:spPr>
              <a:xfrm>
                <a:off x="2841480" y="3349440"/>
                <a:ext cx="531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35000" y="2994120"/>
                <a:ext cx="37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51560" y="3412800"/>
                <a:ext cx="30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778040" y="3778200"/>
              <a:ext cx="149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852640" y="3576600"/>
              <a:ext cx="537480" cy="778680"/>
              <a:chOff x="2852640" y="3576600"/>
              <a:chExt cx="537480" cy="778680"/>
            </a:xfrm>
          </p:grpSpPr>
          <p:sp>
            <p:nvSpPr>
              <p:cNvPr id="223" name=""/>
              <p:cNvSpPr/>
              <p:nvPr/>
            </p:nvSpPr>
            <p:spPr>
              <a:xfrm>
                <a:off x="2859120" y="3932280"/>
                <a:ext cx="531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52640" y="3576600"/>
                <a:ext cx="37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69200" y="3995640"/>
                <a:ext cx="30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778040" y="4181400"/>
              <a:ext cx="2427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446720" y="2144880"/>
            <a:ext cx="2573280" cy="1788480"/>
            <a:chOff x="4446720" y="2144880"/>
            <a:chExt cx="2573280" cy="1788480"/>
          </a:xfrm>
        </p:grpSpPr>
        <p:sp>
          <p:nvSpPr>
            <p:cNvPr id="228" name=""/>
            <p:cNvSpPr/>
            <p:nvPr/>
          </p:nvSpPr>
          <p:spPr>
            <a:xfrm>
              <a:off x="4525920" y="2206440"/>
              <a:ext cx="1516320" cy="1726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46720" y="2333520"/>
              <a:ext cx="12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367600" y="2144880"/>
              <a:ext cx="565920" cy="778320"/>
              <a:chOff x="5367600" y="2144880"/>
              <a:chExt cx="565920" cy="778320"/>
            </a:xfrm>
          </p:grpSpPr>
          <p:sp>
            <p:nvSpPr>
              <p:cNvPr id="231" name=""/>
              <p:cNvSpPr/>
              <p:nvPr/>
            </p:nvSpPr>
            <p:spPr>
              <a:xfrm>
                <a:off x="5374440" y="2500200"/>
                <a:ext cx="559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7600" y="2144880"/>
                <a:ext cx="399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84880" y="2563560"/>
                <a:ext cx="31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465800" y="2916000"/>
              <a:ext cx="1546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397480" y="2716200"/>
              <a:ext cx="566280" cy="778320"/>
              <a:chOff x="5397480" y="2716200"/>
              <a:chExt cx="566280" cy="7783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04320" y="3071520"/>
                <a:ext cx="559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97480" y="2716200"/>
                <a:ext cx="3996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4760" y="3134520"/>
                <a:ext cx="31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465800" y="3321000"/>
              <a:ext cx="2554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62720" y="2205000"/>
            <a:ext cx="1727280" cy="1584360"/>
            <a:chOff x="6462720" y="2205000"/>
            <a:chExt cx="1727280" cy="1584360"/>
          </a:xfrm>
        </p:grpSpPr>
        <p:sp>
          <p:nvSpPr>
            <p:cNvPr id="241" name=""/>
            <p:cNvSpPr/>
            <p:nvPr/>
          </p:nvSpPr>
          <p:spPr>
            <a:xfrm>
              <a:off x="6462720" y="2205000"/>
              <a:ext cx="17272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34000" y="2276280"/>
              <a:ext cx="158436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÷4×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×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57160" y="4632480"/>
            <a:ext cx="7775640" cy="778320"/>
            <a:chOff x="857160" y="4632480"/>
            <a:chExt cx="7775640" cy="778320"/>
          </a:xfrm>
        </p:grpSpPr>
        <p:sp>
          <p:nvSpPr>
            <p:cNvPr id="244" name="Rectangle 2"/>
            <p:cNvSpPr/>
            <p:nvPr/>
          </p:nvSpPr>
          <p:spPr>
            <a:xfrm>
              <a:off x="857160" y="4786200"/>
              <a:ext cx="777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检验结果是否正确？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×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595840" y="4632480"/>
              <a:ext cx="511200" cy="778320"/>
              <a:chOff x="5595840" y="4632480"/>
              <a:chExt cx="511200" cy="778320"/>
            </a:xfrm>
          </p:grpSpPr>
          <p:sp>
            <p:nvSpPr>
              <p:cNvPr id="246" name=""/>
              <p:cNvSpPr/>
              <p:nvPr/>
            </p:nvSpPr>
            <p:spPr>
              <a:xfrm>
                <a:off x="5602320" y="4987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95840" y="4632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11680" y="5051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6"/>
          <p:cNvSpPr/>
          <p:nvPr/>
        </p:nvSpPr>
        <p:spPr>
          <a:xfrm>
            <a:off x="395280" y="136836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杯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鲜牛奶大约含有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钙质，占一个成年人一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需钙质的     。一个成年人一天大约需要多少钙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406520" y="633564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有别的方法吗？交流与反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625320" y="52783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414440" y="561672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题意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406520" y="6070680"/>
            <a:ext cx="700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出等量关系，列方程解决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356000" y="1268280"/>
            <a:ext cx="504720" cy="778680"/>
            <a:chOff x="4356000" y="1268280"/>
            <a:chExt cx="504720" cy="778680"/>
          </a:xfrm>
        </p:grpSpPr>
        <p:sp>
          <p:nvSpPr>
            <p:cNvPr id="256" name=""/>
            <p:cNvSpPr/>
            <p:nvPr/>
          </p:nvSpPr>
          <p:spPr>
            <a:xfrm>
              <a:off x="4356000" y="1623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44920" y="1268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2600" y="168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100240" y="1727280"/>
            <a:ext cx="511200" cy="778680"/>
            <a:chOff x="2100240" y="1727280"/>
            <a:chExt cx="511200" cy="778680"/>
          </a:xfrm>
        </p:grpSpPr>
        <p:sp>
          <p:nvSpPr>
            <p:cNvPr id="260" name=""/>
            <p:cNvSpPr/>
            <p:nvPr/>
          </p:nvSpPr>
          <p:spPr>
            <a:xfrm>
              <a:off x="2106720" y="2082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0240" y="1727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16080" y="2146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17480" y="2276640"/>
            <a:ext cx="4535640" cy="3167640"/>
            <a:chOff x="717480" y="2276640"/>
            <a:chExt cx="4535640" cy="3167640"/>
          </a:xfrm>
        </p:grpSpPr>
        <p:grpSp>
          <p:nvGrpSpPr>
            <p:cNvPr id="264" name=""/>
            <p:cNvGrpSpPr/>
            <p:nvPr/>
          </p:nvGrpSpPr>
          <p:grpSpPr>
            <a:xfrm>
              <a:off x="2392200" y="2874960"/>
              <a:ext cx="504720" cy="778680"/>
              <a:chOff x="2392200" y="2874960"/>
              <a:chExt cx="504720" cy="778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392200" y="3230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81120" y="28749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58800" y="3294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17480" y="2276640"/>
              <a:ext cx="4535640" cy="3167640"/>
              <a:chOff x="717480" y="2276640"/>
              <a:chExt cx="4535640" cy="3167640"/>
            </a:xfrm>
          </p:grpSpPr>
          <p:sp>
            <p:nvSpPr>
              <p:cNvPr id="269" name="Text Box 14"/>
              <p:cNvSpPr/>
              <p:nvPr/>
            </p:nvSpPr>
            <p:spPr>
              <a:xfrm>
                <a:off x="717480" y="2276640"/>
                <a:ext cx="4535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预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成年人一天大约需要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钙质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2479680" y="4665960"/>
                <a:ext cx="511200" cy="778320"/>
                <a:chOff x="2479680" y="4665960"/>
                <a:chExt cx="511200" cy="778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486160" y="50212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79680" y="46659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495520" y="50846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974960" y="3041640"/>
                <a:ext cx="23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685880" y="2886120"/>
                <a:ext cx="511200" cy="778680"/>
                <a:chOff x="1685880" y="2886120"/>
                <a:chExt cx="511200" cy="7786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692360" y="32418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685880" y="28861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701720" y="33051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1990800" y="3598920"/>
                <a:ext cx="1860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054240" y="3441960"/>
                <a:ext cx="511200" cy="778680"/>
                <a:chOff x="3054240" y="3441960"/>
                <a:chExt cx="511200" cy="778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060720" y="37976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54240" y="34419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70080" y="38610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1996920" y="4218120"/>
                <a:ext cx="1998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25720" y="4810320"/>
                <a:ext cx="669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2396880" y="3440160"/>
                <a:ext cx="504720" cy="778680"/>
                <a:chOff x="2396880" y="3440160"/>
                <a:chExt cx="504720" cy="7786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396880" y="37958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485800" y="3440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63480" y="3859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65400" y="4040280"/>
                <a:ext cx="511200" cy="778680"/>
                <a:chOff x="3065400" y="4040280"/>
                <a:chExt cx="511200" cy="778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071880" y="43959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65400" y="40402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081240" y="44593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408040" y="4038840"/>
                <a:ext cx="504720" cy="778680"/>
                <a:chOff x="2408040" y="4038840"/>
                <a:chExt cx="504720" cy="7786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8040" y="43945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496960" y="40388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74640" y="4457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8" name=""/>
          <p:cNvGrpSpPr/>
          <p:nvPr/>
        </p:nvGrpSpPr>
        <p:grpSpPr>
          <a:xfrm>
            <a:off x="5397480" y="2343240"/>
            <a:ext cx="3457440" cy="2230560"/>
            <a:chOff x="5397480" y="2343240"/>
            <a:chExt cx="3457440" cy="2230560"/>
          </a:xfrm>
        </p:grpSpPr>
        <p:sp>
          <p:nvSpPr>
            <p:cNvPr id="299" name="Text Box 18"/>
            <p:cNvSpPr/>
            <p:nvPr/>
          </p:nvSpPr>
          <p:spPr>
            <a:xfrm>
              <a:off x="5397480" y="2343240"/>
              <a:ext cx="3457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462720" y="3795480"/>
              <a:ext cx="511200" cy="778320"/>
              <a:chOff x="6462720" y="3795480"/>
              <a:chExt cx="511200" cy="778320"/>
            </a:xfrm>
          </p:grpSpPr>
          <p:sp>
            <p:nvSpPr>
              <p:cNvPr id="301" name=""/>
              <p:cNvSpPr/>
              <p:nvPr/>
            </p:nvSpPr>
            <p:spPr>
              <a:xfrm>
                <a:off x="6469200" y="4150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62720" y="3795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8560" y="4214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973840" y="2728800"/>
              <a:ext cx="169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068960" y="2560320"/>
              <a:ext cx="511200" cy="778320"/>
              <a:chOff x="7068960" y="2560320"/>
              <a:chExt cx="511200" cy="778320"/>
            </a:xfrm>
          </p:grpSpPr>
          <p:sp>
            <p:nvSpPr>
              <p:cNvPr id="306" name=""/>
              <p:cNvSpPr/>
              <p:nvPr/>
            </p:nvSpPr>
            <p:spPr>
              <a:xfrm>
                <a:off x="7075440" y="2915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68960" y="25603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4800" y="2979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5979960" y="3347640"/>
              <a:ext cx="1976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08760" y="3939840"/>
              <a:ext cx="2579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356160" y="2558880"/>
              <a:ext cx="504720" cy="778320"/>
              <a:chOff x="6356160" y="2558880"/>
              <a:chExt cx="504720" cy="7783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56160" y="2914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45080" y="2558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22760" y="2977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026120" y="3169800"/>
              <a:ext cx="511200" cy="778320"/>
              <a:chOff x="7026120" y="3169800"/>
              <a:chExt cx="511200" cy="778320"/>
            </a:xfrm>
          </p:grpSpPr>
          <p:sp>
            <p:nvSpPr>
              <p:cNvPr id="316" name=""/>
              <p:cNvSpPr/>
              <p:nvPr/>
            </p:nvSpPr>
            <p:spPr>
              <a:xfrm>
                <a:off x="7032600" y="3525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26120" y="3169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41960" y="3588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380280" y="3168360"/>
              <a:ext cx="504720" cy="778320"/>
              <a:chOff x="6380280" y="3168360"/>
              <a:chExt cx="504720" cy="778320"/>
            </a:xfrm>
          </p:grpSpPr>
          <p:sp>
            <p:nvSpPr>
              <p:cNvPr id="320" name=""/>
              <p:cNvSpPr/>
              <p:nvPr/>
            </p:nvSpPr>
            <p:spPr>
              <a:xfrm>
                <a:off x="6380280" y="3523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69200" y="3168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46880" y="3587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6178680" y="3106800"/>
            <a:ext cx="1407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千米／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42920" y="1405080"/>
            <a:ext cx="5464800" cy="901080"/>
            <a:chOff x="1042920" y="1405080"/>
            <a:chExt cx="5464800" cy="901080"/>
          </a:xfrm>
        </p:grpSpPr>
        <p:sp>
          <p:nvSpPr>
            <p:cNvPr id="327" name="Rectangle 20"/>
            <p:cNvSpPr/>
            <p:nvPr/>
          </p:nvSpPr>
          <p:spPr>
            <a:xfrm>
              <a:off x="1042920" y="1625040"/>
              <a:ext cx="2112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行车的速度是摩托车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4543920" y="1608840"/>
              <a:ext cx="19638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摩托车每小时行多少千米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533760" y="1405080"/>
              <a:ext cx="511200" cy="778680"/>
              <a:chOff x="3533760" y="1405080"/>
              <a:chExt cx="511200" cy="778680"/>
            </a:xfrm>
          </p:grpSpPr>
          <p:sp>
            <p:nvSpPr>
              <p:cNvPr id="330" name=""/>
              <p:cNvSpPr/>
              <p:nvPr/>
            </p:nvSpPr>
            <p:spPr>
              <a:xfrm>
                <a:off x="3540240" y="1760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33760" y="1405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49600" y="1824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395280" y="2138400"/>
            <a:ext cx="4535640" cy="2912040"/>
            <a:chOff x="395280" y="2138400"/>
            <a:chExt cx="4535640" cy="2912040"/>
          </a:xfrm>
        </p:grpSpPr>
        <p:sp>
          <p:nvSpPr>
            <p:cNvPr id="334" name="Text Box 14"/>
            <p:cNvSpPr/>
            <p:nvPr/>
          </p:nvSpPr>
          <p:spPr>
            <a:xfrm>
              <a:off x="395280" y="2138400"/>
              <a:ext cx="45356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摩托车每小时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2760" y="2903400"/>
              <a:ext cx="23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363680" y="2747880"/>
              <a:ext cx="511200" cy="778680"/>
              <a:chOff x="1363680" y="2747880"/>
              <a:chExt cx="511200" cy="778680"/>
            </a:xfrm>
          </p:grpSpPr>
          <p:sp>
            <p:nvSpPr>
              <p:cNvPr id="337" name=""/>
              <p:cNvSpPr/>
              <p:nvPr/>
            </p:nvSpPr>
            <p:spPr>
              <a:xfrm>
                <a:off x="1370160" y="3103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63680" y="2747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79520" y="31669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67240" y="3460680"/>
              <a:ext cx="90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732040" y="3303720"/>
              <a:ext cx="511200" cy="778680"/>
              <a:chOff x="2732040" y="3303720"/>
              <a:chExt cx="511200" cy="778680"/>
            </a:xfrm>
          </p:grpSpPr>
          <p:sp>
            <p:nvSpPr>
              <p:cNvPr id="342" name=""/>
              <p:cNvSpPr/>
              <p:nvPr/>
            </p:nvSpPr>
            <p:spPr>
              <a:xfrm>
                <a:off x="2738520" y="3659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32040" y="3303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47880" y="372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768680" y="4078440"/>
              <a:ext cx="916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03520" y="4627440"/>
              <a:ext cx="106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743200" y="3902040"/>
              <a:ext cx="511200" cy="778680"/>
              <a:chOff x="2743200" y="3902040"/>
              <a:chExt cx="511200" cy="77868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9680" y="4257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3200" y="3902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59040" y="4321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3828960" y="2205000"/>
            <a:ext cx="4535640" cy="1981800"/>
            <a:chOff x="3828960" y="2205000"/>
            <a:chExt cx="4535640" cy="1981800"/>
          </a:xfrm>
        </p:grpSpPr>
        <p:sp>
          <p:nvSpPr>
            <p:cNvPr id="352" name="Text Box 14"/>
            <p:cNvSpPr/>
            <p:nvPr/>
          </p:nvSpPr>
          <p:spPr>
            <a:xfrm>
              <a:off x="3828960" y="2205000"/>
              <a:ext cx="4535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271760" y="2440080"/>
              <a:ext cx="2581200" cy="1746720"/>
              <a:chOff x="4271760" y="2440080"/>
              <a:chExt cx="2581200" cy="1746720"/>
            </a:xfrm>
          </p:grpSpPr>
          <p:sp>
            <p:nvSpPr>
              <p:cNvPr id="354" name=""/>
              <p:cNvSpPr/>
              <p:nvPr/>
            </p:nvSpPr>
            <p:spPr>
              <a:xfrm>
                <a:off x="4336200" y="2595240"/>
                <a:ext cx="942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300640" y="2440080"/>
                <a:ext cx="510480" cy="778320"/>
                <a:chOff x="5300640" y="2440080"/>
                <a:chExt cx="510480" cy="778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306760" y="279540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300640" y="244008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316120" y="28587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330800" y="3214440"/>
                <a:ext cx="992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71760" y="3763800"/>
                <a:ext cx="2581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千米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5311440" y="3038040"/>
                <a:ext cx="511200" cy="778320"/>
                <a:chOff x="5311440" y="3038040"/>
                <a:chExt cx="511200" cy="778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317920" y="33933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311440" y="30380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327280" y="34567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" name="Rectangle 2"/>
          <p:cNvSpPr/>
          <p:nvPr/>
        </p:nvSpPr>
        <p:spPr>
          <a:xfrm>
            <a:off x="395280" y="50245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根据题意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1187280" y="538308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画的线段图和前两道题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1187280" y="6081840"/>
            <a:ext cx="752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读懂了它的意思，说一说。还有不同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187280" y="5800680"/>
            <a:ext cx="610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解决这个问题吗？写出你的思考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524720" y="220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45120" y="222084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43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